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8E2C-DF89-498F-B8DB-6A1FDC7988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268-2AB6-4807-B1DE-C9064700A9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CAF7-92F8-4C5A-9BFF-26863CFF7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B9EB-F978-458C-9C31-5768025CD8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EA76-FEC8-490F-940D-C13C837524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88C-21E8-4A79-9FD7-3249E9B48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8CEF-F1FF-4BC6-82CD-B773E9982D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3A35-F015-4D69-B8E1-56D31D36B4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791D-47C7-4F3A-9496-75FB41E229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84C5-CF72-460D-9CC1-3BE93FFFE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455-8B41-4ADF-9555-15015FF8BD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442-7B21-4529-82C4-4D6533B3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452-BD59-4FEE-8405-D42B2490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0809E-182B-46E1-A5EE-7E5B290E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62739-240D-4C37-AA7F-362D6D26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D8270-213E-40F2-A5DE-618DD64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FC04B-46F6-4578-A6DC-11DEC906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2D613-6ED0-496B-A987-03E25FA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68F01-64C8-41DC-8C2F-BC89E56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BFA74-BBA5-4681-AD74-3DFA605D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290D3-2722-4ADF-8E05-C174D014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67DC3-EE4E-4B67-A54A-19146F54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AE7D6-2D18-4254-BEDD-D076B632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9C8-AD33-489C-95B0-82486E9E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91997-9201-420D-BCF1-6CBF180C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5A78C-C11D-4EE3-94C0-D0A74C0C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F5AD6-B48E-497A-AA73-248A251B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4F260-FC8B-4135-B0E4-9F0C4CFE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264A4-18A8-4D2B-9E48-314AC70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E7D19-5729-40A1-8475-70D8EC5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39345-F0B4-4F3A-9301-7E18867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8D37A-E263-4CA4-AB1B-E7669B3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F540B-3BD5-405F-B188-297908FC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F9AFF-C64B-4FBB-911F-6CD21E3B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9E0-83F9-4F71-AED1-1DE17D7C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398D8-8458-492B-9F94-787EE59D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821CC-51CF-4D5D-BED8-E5D07327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9D09F-26E1-4083-A8E9-B8995F4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D1C52-96AC-46CF-B1D0-F03B70C1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A530-4F37-4F6E-80A9-32EC6663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6A014-939B-4363-A83B-8EA173C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BEAA0-6ADD-4D4A-A3A8-DE533C73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50B41-D7AE-4819-9A44-2FFD996B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4403-4D68-4639-B2D4-C67C384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9CB1D-A408-48FC-811D-B68EBA3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AC30-21F9-46A1-A5B9-0CAAED2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CA6F7-6871-435B-B37E-9D7A5ADF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3124E-1FA3-4D18-B5AF-BCF0CD7D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1CC35-CC7E-4C21-945A-A97EB80C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65C98-FDBA-4360-804E-4C08CF7E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86CEB-4E7F-4481-9174-579B9C4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D2099-0489-4188-82A8-3701DBC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529F3-3567-438D-8850-66338E73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41DC5-BB20-4351-A644-EBB0D926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9BBAA-C850-48C0-9821-81396D6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6DF3B-B0DC-4FE7-B4C6-00BAD95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233-2ACB-462C-9868-BB324927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F92D8-4F94-4F40-B765-59FCF874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4B4D-6C93-4D0B-8DCB-5F6BF1B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D110A-CF5A-4750-86A7-B95D8AD3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293B9-79D0-4B33-A646-D9EEC480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816F2-A7DB-4946-B5CC-02E17697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BB7-4983-4266-931C-FEAFCAA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2DE7-CF22-46E6-B5FC-718F9E90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E706-5A8F-4DAC-8F22-64668E2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880-1D56-40FD-B5F5-81F01734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5617-023E-4CEF-BE4A-71D9A62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EB4-189C-4F1A-A2BB-33F63B6F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F2DA-A1F2-4EF4-992A-66FE9B8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9525-4776-4F41-9796-ED7A0E6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0BCF-BC73-4D58-8E08-F27D0360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1870-CB7D-4E6C-B71C-A16312C6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0A08-695D-41C4-9B01-EABE8A08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0AC5-1E20-48C6-BBB5-29F706F9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F0CF-BF0E-43C5-BEC8-75B27865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226E-DCCC-4778-B767-86EE11D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70AA-6101-4D91-8203-7B0A622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3A99D-4293-40D2-867E-1765E3BD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96B-5E68-4B8E-A9B7-77ED4C73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475B-33C7-40B8-8C23-B19B86C5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DF1E-1270-48EF-9D90-055019D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7AB1-CFDD-4288-B14D-61FAA2C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73C0-53CB-47B6-9C13-ACD7DBB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0267-45D8-4EC9-8625-5CD817E9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29BD-890D-42B0-8F08-80CBF882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E8E2-A7CE-4B59-BB00-83CA25A9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D9F33-1018-42DA-9C0E-19793BC4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BB21-3DC0-45D8-9F13-C6830293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ACB9-B294-4E1A-AF63-515B2D9B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76D-78F1-4C54-9CE8-D56E1EC1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9DBD-74B6-4AEE-AC75-39CDA5CD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2157-47B3-4FFD-BB7C-8CDE551C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9E79-CC1B-460A-81AF-ADC0613D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415F6-E7B2-43FB-B8A5-EFB6E2D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6C98-1598-4EC3-BED5-0B36E07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0EB4-FD16-4C06-9AA6-5A72547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7CE5-69BD-42DF-9753-2C2E9A16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19F0-B217-4AC3-966A-00272B62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0E815-B503-4479-93E5-EEB6812A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4B6B-2F1B-44CC-B6D9-E2D2E3B1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F44-2F08-4E53-AD10-02BCC7D4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AF6B-89B0-4881-A38D-0A67F09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BEF55-C148-44EE-AA91-382AF68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01904-2BF6-4E46-B9A8-29E6830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131C-47BC-4347-BD2E-412DFE5D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0D3A-B6F2-4A69-811F-13F7C01E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1D57-4611-4286-AC72-FBDA792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1977-3CE8-4D86-812A-D4280F9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E9BFE-423F-476F-AF30-79CCEF6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DF428-AB42-406D-9B34-E973246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5E70-1F77-42B4-97A6-B81B5A73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0B0-6F8D-4D9A-88AD-BAED19B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5F12-E034-404B-BE58-3E75BCDB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5E403-987F-4749-9126-D9C9325B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66E05-7BB4-4757-9831-68CA6914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A322-8690-4122-838D-566B7C7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F2B8-2FA6-4973-9DF1-FED874B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6D85E-0E66-4FB8-A25F-90B28966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9730A-F56E-4B5D-BCFB-39D2111E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D7A7-9F98-42FC-B5FA-7CBCFB11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A7DA-08A0-4152-A228-DFA6CB59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EB40-2574-4DAF-84FC-9696C75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699-E0A8-4C6B-94A5-100B78A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2F1C5-6EEF-47EE-927B-775E4C05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C451-5424-435D-B44A-69230DB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4102-D5FD-4AD1-8612-55D5C52F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9E5C0-E7AB-49D1-8F3A-20B63774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59AA9-A003-457D-A66A-5169BB59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03107-7C3C-4A63-9210-7B1C450D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15182-46B3-4D9C-8D0A-B9770D3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19C21-5DB2-42AF-A63D-F1053586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80B6F-6B23-47BE-9461-022D3908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6011-B705-4036-AF73-E41F349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C6B-A69E-44D1-BD6B-FBFB397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D1B5-B561-46EE-ABE9-0D3CF3D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D8E50-2DBE-4800-A150-DD0979A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0D81-97B7-4370-9FD6-EE465F7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70F3-9B99-41F7-9A04-2F557EAB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EF802-4275-4A34-B03F-07ECC266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5420-C731-4E36-B1F8-020BF4A0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542C-D7C2-45E9-BA01-FC50F7F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0441F-774D-45D2-8BBE-60640754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30CD-85BF-4108-9B35-E83AB45C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1AA41-B3E8-4A7A-860D-1F5626E2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C2B-2283-4844-BA98-E7257B3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B4CB1-54F3-4DA3-AC04-ED5B45C2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2E568-9ADF-4529-AAC9-5D09CE7A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DA02-7DCB-41C4-8CE2-3E079C8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B3A8-2BD1-4D20-95B5-031C2863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C054D-E385-491E-A938-B71BEDE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61896-2976-4240-80CF-430B2805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F5F5F-CA85-4E7F-940B-9E8E93B0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1AE97-47C2-4AC5-A03A-E4127E8E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1B04-C6BF-478A-A957-90DD00B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B503E-5967-4ADC-A957-9BB97B8D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51A-450C-429C-A072-9C51E85DDA1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60F-6323-4FB4-A41D-3A6B35427DD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F02-C787-4567-B380-8DE7C501B37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2147-8E9C-4F03-98A6-D4771A9AF15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8237-5B3B-4055-9585-95AF9431484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8AE-6BE5-4BF7-9548-3289750C63A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530-0C4B-47F3-88EE-8AE1DF70584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A6BB-49EB-4A36-B90F-C1D4209BC18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829-DCDF-4BAD-98E6-8F118F7F52B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861-827D-40DD-8DEB-1F5296112D3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655D-3AA1-4F2C-B168-F0AAAA50AF4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565E-1C32-4FC6-9A6D-A3A881F7807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/>
          <p:cNvSpPr/>
          <p:nvPr/>
        </p:nvSpPr>
        <p:spPr>
          <a:xfrm>
            <a:off x="250920" y="1268280"/>
            <a:ext cx="8642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mic Sans MS"/>
              </a:rPr>
              <a:t>Кратко об истории развития радиосвяз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1066680" y="60948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24000" y="3738600"/>
            <a:ext cx="8591400" cy="28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96 г. он уже догонял Попова и в скором времени в значительной степени превзошел его, потому что имел больше поддержки и свободы. Насколько аморфная Россия не заинтересовалась исследованиями Попова, настолько Запад заинтересовался исследованиями Марко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1898 году Маркони впервые передал радиосигнал через Ла-Манш, а в 1901 г.  – через Атлан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белевская премия по физике 19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7" descr="Marconi2"/>
          <p:cNvPicPr/>
          <p:nvPr/>
        </p:nvPicPr>
        <p:blipFill>
          <a:blip r:embed="rId1"/>
          <a:srcRect l="0" t="0" r="3264" b="-877"/>
          <a:stretch/>
        </p:blipFill>
        <p:spPr>
          <a:xfrm>
            <a:off x="3456000" y="1052640"/>
            <a:ext cx="2592360" cy="20635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marconi_1"/>
          <p:cNvPicPr/>
          <p:nvPr/>
        </p:nvPicPr>
        <p:blipFill>
          <a:blip r:embed="rId2"/>
          <a:stretch/>
        </p:blipFill>
        <p:spPr>
          <a:xfrm>
            <a:off x="6227640" y="1071720"/>
            <a:ext cx="1914480" cy="207792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1"/>
          <p:cNvSpPr/>
          <p:nvPr/>
        </p:nvSpPr>
        <p:spPr>
          <a:xfrm>
            <a:off x="1206360" y="87624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опытов Попова аналогичное устройство в Лондоне представил Гульельмо Маркони (Marconi, Guglielmo; 1874-193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Прямоугольник 1"/>
          <p:cNvSpPr/>
          <p:nvPr/>
        </p:nvSpPr>
        <p:spPr>
          <a:xfrm>
            <a:off x="3384720" y="692280"/>
            <a:ext cx="56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Вальдемар Поулсен (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Valdemar Poulsen), 1869–1942</a:t>
            </a: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. Датский физик и изобрет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Рисунок 2" descr=""/>
          <p:cNvPicPr/>
          <p:nvPr/>
        </p:nvPicPr>
        <p:blipFill>
          <a:blip r:embed="rId1"/>
          <a:stretch/>
        </p:blipFill>
        <p:spPr>
          <a:xfrm>
            <a:off x="200160" y="117360"/>
            <a:ext cx="28954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3"/>
          <p:cNvSpPr/>
          <p:nvPr/>
        </p:nvSpPr>
        <p:spPr>
          <a:xfrm>
            <a:off x="179280" y="3995640"/>
            <a:ext cx="885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чение первых десятилетий XX века его дуговая система передачи была основой большинства устройств радиосвязи. Кроме дуги, Поулсен первым разработал (в 1899 г.) принципы магнитной 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оме обеспечения более мощной и чистой передачи телеграфных сигналов, она впервые в истории радио позволила всерьез задуматься о возможности передачи г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Рисунок 1" descr=""/>
          <p:cNvPicPr/>
          <p:nvPr/>
        </p:nvPicPr>
        <p:blipFill>
          <a:blip r:embed="rId1"/>
          <a:stretch/>
        </p:blipFill>
        <p:spPr>
          <a:xfrm>
            <a:off x="611280" y="31680"/>
            <a:ext cx="7900920" cy="563256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"/>
          <p:cNvSpPr/>
          <p:nvPr/>
        </p:nvSpPr>
        <p:spPr>
          <a:xfrm>
            <a:off x="0" y="5707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уговой генератор Поулсена на радиостанции (о. Ява, Индонезия). Май 1923 г. Мощность генератора  – 3.6 МВт. Длина антенны – 2000 м, ширина – 240 м, высота подвеса – 500 м над дном ущелья. Радиостанция предназначалась для прямой связи на расстоянии ок. 12000 км на волнах длиной 20-75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1049400" y="534960"/>
            <a:ext cx="784836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2"/>
          <p:cNvSpPr/>
          <p:nvPr/>
        </p:nvSpPr>
        <p:spPr>
          <a:xfrm>
            <a:off x="108000" y="44280"/>
            <a:ext cx="89280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В 1917—1918 г. в США (Э. Армстронг), во Франции (Л. Леви), в Германии (В. Шоттки) был предложен принцип супергетеродинного приёма. Из-за несовершенства тогдашних электронных ламп супергетеродин не мог быть качественно реализов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Calibri"/>
              </a:rPr>
              <a:t>В 1929-30 гг. с появлением радиоламп с экранной сеткой (тетродов и пентодов) супергетеродинный приёмник становится основным тип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3"/>
          <p:cNvSpPr/>
          <p:nvPr/>
        </p:nvSpPr>
        <p:spPr>
          <a:xfrm>
            <a:off x="92160" y="2697120"/>
            <a:ext cx="558000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Эдвин Говард Армстронг (</a:t>
            </a: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Edwin Howard Armstrong), 1890–1954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мериканский изобретатель и инженер-электрик, внесший фундаментальный вклад в развитие радиотехники. Наиболее значимые изобретения Армстронга – супергетеродинный приемник, частотная модуляция и регенеративная схема (положительная обратная связ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Рисунок 4" descr=""/>
          <p:cNvPicPr/>
          <p:nvPr/>
        </p:nvPicPr>
        <p:blipFill>
          <a:blip r:embed="rId1"/>
          <a:stretch/>
        </p:blipFill>
        <p:spPr>
          <a:xfrm>
            <a:off x="5811840" y="2565360"/>
            <a:ext cx="29638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187280" y="59688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Рисунок 4" descr=""/>
          <p:cNvPicPr/>
          <p:nvPr/>
        </p:nvPicPr>
        <p:blipFill>
          <a:blip r:embed="rId1"/>
          <a:stretch/>
        </p:blipFill>
        <p:spPr>
          <a:xfrm>
            <a:off x="1332000" y="596880"/>
            <a:ext cx="2289240" cy="297828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5"/>
          <p:cNvSpPr/>
          <p:nvPr/>
        </p:nvSpPr>
        <p:spPr>
          <a:xfrm>
            <a:off x="3898800" y="18900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Джеймс Клерк Максвелл (Clerk Maxwell) (1831-1879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6"/>
          <p:cNvSpPr/>
          <p:nvPr/>
        </p:nvSpPr>
        <p:spPr>
          <a:xfrm>
            <a:off x="1174680" y="3860640"/>
            <a:ext cx="763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нглийский физик, создатель классической электродинамики. Создал теорию электромагнитного поля; ввел понятие тока смещения, предсказал существование электромагнитных волн, выдвинул идею электромагнитной природы света. К 1869 сформулировал в виде системы четырех уравнений основные закономерности поведения электромагнитного по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7" descr=""/>
          <p:cNvPicPr/>
          <p:nvPr/>
        </p:nvPicPr>
        <p:blipFill>
          <a:blip r:embed="rId2"/>
          <a:stretch/>
        </p:blipFill>
        <p:spPr>
          <a:xfrm>
            <a:off x="4738680" y="998640"/>
            <a:ext cx="27860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1" descr=""/>
          <p:cNvPicPr/>
          <p:nvPr/>
        </p:nvPicPr>
        <p:blipFill>
          <a:blip r:embed="rId1"/>
          <a:stretch/>
        </p:blipFill>
        <p:spPr>
          <a:xfrm>
            <a:off x="971640" y="149400"/>
            <a:ext cx="7272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1054080" y="622440"/>
            <a:ext cx="784872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Рисунок 1" descr=""/>
          <p:cNvPicPr/>
          <p:nvPr/>
        </p:nvPicPr>
        <p:blipFill>
          <a:blip r:embed="rId1"/>
          <a:stretch/>
        </p:blipFill>
        <p:spPr>
          <a:xfrm>
            <a:off x="1486080" y="631800"/>
            <a:ext cx="2149200" cy="2801880"/>
          </a:xfrm>
          <a:prstGeom prst="rect">
            <a:avLst/>
          </a:prstGeom>
          <a:ln w="0">
            <a:noFill/>
          </a:ln>
        </p:spPr>
      </p:pic>
      <p:sp>
        <p:nvSpPr>
          <p:cNvPr id="541" name="Прямоугольник 2"/>
          <p:cNvSpPr/>
          <p:nvPr/>
        </p:nvSpPr>
        <p:spPr>
          <a:xfrm>
            <a:off x="1198440" y="3449520"/>
            <a:ext cx="755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ложил использовать для первичной обмотки медный провод в лаковой изоляции, межслоевую шелковую изоляцию и межобмоточную изоляцию в виде стеклянной труб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езультате многочисленных улучшений устройство стали называть «катушка Румкорфа». Применялась в большинстве опытов с электромагнитными волнами в конце XIX – начале XX вв, в т.ч. в приемниках Герца, Лоджа, Попова и Марко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3"/>
          <p:cNvSpPr/>
          <p:nvPr/>
        </p:nvSpPr>
        <p:spPr>
          <a:xfrm>
            <a:off x="4067280" y="5540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енрих Даниель Румкорф (Heinrich Daniel Ruhmkorff)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803-1877) Немецкий исследователь, в середине XIX века вел работы по усовершенствованию индукционных кат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1187280" y="62064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1168560" y="639720"/>
            <a:ext cx="4267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Немецкий физик Генрих Герц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887 году осуществил первую в мире радиопередачу и радиоприём радиово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Рисунок 1" descr=""/>
          <p:cNvPicPr/>
          <p:nvPr/>
        </p:nvPicPr>
        <p:blipFill>
          <a:blip r:embed="rId1"/>
          <a:stretch/>
        </p:blipFill>
        <p:spPr>
          <a:xfrm>
            <a:off x="5975280" y="981000"/>
            <a:ext cx="2274840" cy="285588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3"/>
          <p:cNvSpPr/>
          <p:nvPr/>
        </p:nvSpPr>
        <p:spPr>
          <a:xfrm>
            <a:off x="1133640" y="2733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опередатч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рца создан на основе катушки Румкорфа (с ударным возбуждением колебательного контура ключевым прерывател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4"/>
          <p:cNvSpPr/>
          <p:nvPr/>
        </p:nvSpPr>
        <p:spPr>
          <a:xfrm>
            <a:off x="5653080" y="415116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приемника Герц использовал проволочное незамкнутое кольцо у с такими же, как у «передатчика» латунными шариками на концах и регулируемым искровым промежу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Рисунок 1" descr=""/>
          <p:cNvPicPr/>
          <p:nvPr/>
        </p:nvPicPr>
        <p:blipFill>
          <a:blip r:embed="rId2"/>
          <a:stretch/>
        </p:blipFill>
        <p:spPr>
          <a:xfrm>
            <a:off x="1219320" y="3971880"/>
            <a:ext cx="4433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054080" y="622440"/>
            <a:ext cx="784872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3"/>
          <p:cNvSpPr/>
          <p:nvPr/>
        </p:nvSpPr>
        <p:spPr>
          <a:xfrm>
            <a:off x="4021200" y="692280"/>
            <a:ext cx="4856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дуа́рд Бранли́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1844 - 1940) — французский изобретатель, физик и инженер. Один из изобретателей радио, первым использовавший этот тер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5"/>
          <p:cNvSpPr/>
          <p:nvPr/>
        </p:nvSpPr>
        <p:spPr>
          <a:xfrm>
            <a:off x="1116000" y="3716280"/>
            <a:ext cx="776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им из изобретений Бранли явилось создание прибора для регистрации электромагнитных волн. Позднее этот прибор получил название когерер (1890). Он представлял собой стеклянную трубку, наполненную металлическими опилками которые могли резко и намного, в несколько сот раз, менять свою проводимость (сопротивление) под воздействием радиосиг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2" descr=""/>
          <p:cNvPicPr/>
          <p:nvPr/>
        </p:nvPicPr>
        <p:blipFill>
          <a:blip r:embed="rId1"/>
          <a:stretch/>
        </p:blipFill>
        <p:spPr>
          <a:xfrm>
            <a:off x="1457280" y="669960"/>
            <a:ext cx="2160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1054080" y="622440"/>
            <a:ext cx="7848720" cy="60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1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2246400" cy="30258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2"/>
          <p:cNvSpPr/>
          <p:nvPr/>
        </p:nvSpPr>
        <p:spPr>
          <a:xfrm>
            <a:off x="1054080" y="40006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В 1894 г., 14 августа, сэр Оливер Джозеф Лодж и Александр Мирхед на заседании Британской ассоциации содействия развитию науки в Оксфордском университете произвели первую успешную демонстрацию радиотелеграфии на расстоян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0 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Рисунок 3" descr=""/>
          <p:cNvPicPr/>
          <p:nvPr/>
        </p:nvPicPr>
        <p:blipFill>
          <a:blip r:embed="rId2"/>
          <a:stretch/>
        </p:blipFill>
        <p:spPr>
          <a:xfrm>
            <a:off x="5724360" y="141120"/>
            <a:ext cx="2067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960480" y="504720"/>
            <a:ext cx="784872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6342120" y="3243240"/>
            <a:ext cx="24494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оприемник – «грозоотметчик» был продемонстриров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мая 18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2" descr="popov_radio_scheme"/>
          <p:cNvPicPr/>
          <p:nvPr/>
        </p:nvPicPr>
        <p:blipFill>
          <a:blip r:embed="rId1"/>
          <a:stretch/>
        </p:blipFill>
        <p:spPr>
          <a:xfrm>
            <a:off x="6576840" y="1052640"/>
            <a:ext cx="1981440" cy="219060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1"/>
          <p:cNvSpPr/>
          <p:nvPr/>
        </p:nvSpPr>
        <p:spPr>
          <a:xfrm>
            <a:off x="1127160" y="698400"/>
            <a:ext cx="2708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Calibri"/>
              </a:rPr>
              <a:t>В СССР датой рождения радио считалось 7 мая 1895 года, когда А. С. Попов продемонстрировал грозоотметчик на заседании Русского физико-химического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ервая публикация сообщения о «разрядоотметчике Попова» сделана Д. А. Лачиновым во втором издании его учебника «Метеорология и климатология» (июль 18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"/>
          <p:cNvSpPr/>
          <p:nvPr/>
        </p:nvSpPr>
        <p:spPr>
          <a:xfrm>
            <a:off x="3970440" y="44942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 и Маркони осуществили первые попытки увеличить расстояние между передатчиком и приемником, постепенно совершенствуя разрядник и когерер и повышая эффективность системы с помощью антенны и зазе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2" descr=""/>
          <p:cNvPicPr/>
          <p:nvPr/>
        </p:nvPicPr>
        <p:blipFill>
          <a:blip r:embed="rId2"/>
          <a:stretch/>
        </p:blipFill>
        <p:spPr>
          <a:xfrm>
            <a:off x="3851280" y="1039680"/>
            <a:ext cx="240516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108000" y="115920"/>
            <a:ext cx="8928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.С. Попов установил (весной 1897) радиосвязь на расстояние около 600 м, а затем (летом 1997) до 5 км между кораблями в Кронштадтской гав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опытов обнаружил, что металлические корабли влияют на распространение во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ил способ определения направления на работающий передат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вое практическое использование изобретения А.С. Попова. Броненосец береговой обороны «Генерал-адмирал Апраксин» налетел на камни у южной оконечности о. Гогланд. Для обеспечения руководства работами по снятию броненосца с мели Попов предложил организовать радиосвязь между Коткой и Гогландом. На берегу были воздвигнуты мачты, подвешены антенны и установлена аппаратура. Во время спасательных работ связь между берегом, островом и броненосцем поддерживалась по беспроволочному телеграфу. При этом дальность связи достигала 45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2:13:15Z</dcterms:created>
  <dc:creator>Гладких Борис</dc:creator>
  <dc:description/>
  <dc:language>en-US</dc:language>
  <cp:lastModifiedBy>Silver</cp:lastModifiedBy>
  <dcterms:modified xsi:type="dcterms:W3CDTF">2023-12-20T08:38:45Z</dcterms:modified>
  <cp:revision>520</cp:revision>
  <dc:subject/>
  <dc:title>Слайд 1</dc:title>
</cp:coreProperties>
</file>